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0EF-6D20-4D62-9580-FF3EB1A7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914-4656-464F-8702-6E87A9C7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CAC-7761-4C72-B84C-64D4BA0D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BA4-B4A6-4DBD-8D97-059A4915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EA7-BCB1-420A-A431-7C3A30B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220-DC34-4FF6-8A83-CF26547D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708-E02A-40F2-B7C6-002CCA2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B3E-F3E1-4CD1-886C-17F5469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0B6-DCCA-413F-ABD0-4196016A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C12-313A-4CE4-86FB-B1CD7416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C99-F7B5-4E70-8C7E-E393446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BEB-FCF7-4EE1-9562-469ACBA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F46A-BA97-4259-87C5-F0DE03EA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914400"/>
            <a:ext cx="1467000" cy="44830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IN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143000"/>
            <a:ext cx="5715000" cy="4158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ba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tiative fo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th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obal" descr=""/>
          <p:cNvPicPr/>
          <p:nvPr/>
        </p:nvPicPr>
        <p:blipFill>
          <a:blip r:embed="rId1"/>
          <a:stretch/>
        </p:blipFill>
        <p:spPr>
          <a:xfrm>
            <a:off x="5689440" y="533520"/>
            <a:ext cx="24433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rick%20lattante1" descr=""/>
          <p:cNvPicPr/>
          <p:nvPr/>
        </p:nvPicPr>
        <p:blipFill>
          <a:blip r:embed="rId1"/>
          <a:stretch/>
        </p:blipFill>
        <p:spPr>
          <a:xfrm>
            <a:off x="1712880" y="1285920"/>
            <a:ext cx="5716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rick%20lattante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228600"/>
            <a:ext cx="660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ssification of Seve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467480" cy="1143000"/>
          </a:xfrm>
          <a:custGeom>
            <a:avLst/>
            <a:gdLst/>
            <a:ahLst/>
            <a:rect l="l" t="t" r="r" b="b"/>
            <a:pathLst>
              <a:path w="4197" h="554">
                <a:moveTo>
                  <a:pt x="4196" y="312"/>
                </a:moveTo>
                <a:lnTo>
                  <a:pt x="4196" y="0"/>
                </a:lnTo>
                <a:lnTo>
                  <a:pt x="827" y="0"/>
                </a:lnTo>
                <a:lnTo>
                  <a:pt x="825" y="131"/>
                </a:lnTo>
                <a:lnTo>
                  <a:pt x="666" y="131"/>
                </a:lnTo>
                <a:lnTo>
                  <a:pt x="666" y="246"/>
                </a:lnTo>
                <a:lnTo>
                  <a:pt x="476" y="246"/>
                </a:lnTo>
                <a:lnTo>
                  <a:pt x="476" y="363"/>
                </a:lnTo>
                <a:lnTo>
                  <a:pt x="286" y="363"/>
                </a:lnTo>
                <a:lnTo>
                  <a:pt x="286" y="472"/>
                </a:lnTo>
                <a:lnTo>
                  <a:pt x="0" y="472"/>
                </a:lnTo>
                <a:lnTo>
                  <a:pt x="0" y="553"/>
                </a:lnTo>
                <a:lnTo>
                  <a:pt x="816" y="553"/>
                </a:lnTo>
                <a:lnTo>
                  <a:pt x="816" y="312"/>
                </a:lnTo>
                <a:lnTo>
                  <a:pt x="4196" y="312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2244600"/>
            <a:ext cx="1981080" cy="498600"/>
          </a:xfrm>
          <a:custGeom>
            <a:avLst/>
            <a:gdLst/>
            <a:ahLst/>
            <a:rect l="l" t="t" r="r" b="b"/>
            <a:pathLst>
              <a:path w="1127" h="245">
                <a:moveTo>
                  <a:pt x="0" y="0"/>
                </a:moveTo>
                <a:lnTo>
                  <a:pt x="1126" y="0"/>
                </a:lnTo>
                <a:lnTo>
                  <a:pt x="1126" y="244"/>
                </a:lnTo>
                <a:lnTo>
                  <a:pt x="0" y="24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828800"/>
            <a:ext cx="4497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3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4958"/>
                </a:solidFill>
                <a:latin typeface="Arial"/>
              </a:rPr>
              <a:t>CLASSIFY SEVE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958"/>
                </a:solidFill>
                <a:latin typeface="Arial"/>
              </a:rPr>
              <a:t>Clinical Features Before Trea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029200"/>
            <a:ext cx="1447920" cy="1066680"/>
          </a:xfrm>
          <a:custGeom>
            <a:avLst/>
            <a:gdLst/>
            <a:ahLst/>
            <a:rect l="l" t="t" r="r" b="b"/>
            <a:pathLst>
              <a:path w="814" h="635">
                <a:moveTo>
                  <a:pt x="0" y="0"/>
                </a:moveTo>
                <a:lnTo>
                  <a:pt x="813" y="0"/>
                </a:lnTo>
                <a:lnTo>
                  <a:pt x="813" y="634"/>
                </a:lnTo>
                <a:lnTo>
                  <a:pt x="0" y="63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191120"/>
            <a:ext cx="1447920" cy="914400"/>
          </a:xfrm>
          <a:custGeom>
            <a:avLst/>
            <a:gdLst/>
            <a:ahLst/>
            <a:rect l="l" t="t" r="r" b="b"/>
            <a:pathLst>
              <a:path w="814" h="427">
                <a:moveTo>
                  <a:pt x="0" y="0"/>
                </a:moveTo>
                <a:lnTo>
                  <a:pt x="813" y="0"/>
                </a:lnTo>
                <a:lnTo>
                  <a:pt x="813" y="426"/>
                </a:lnTo>
                <a:lnTo>
                  <a:pt x="0" y="42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429000"/>
            <a:ext cx="1447920" cy="838080"/>
          </a:xfrm>
          <a:custGeom>
            <a:avLst/>
            <a:gdLst/>
            <a:ahLst/>
            <a:rect l="l" t="t" r="r" b="b"/>
            <a:pathLst>
              <a:path w="814" h="431">
                <a:moveTo>
                  <a:pt x="0" y="0"/>
                </a:moveTo>
                <a:lnTo>
                  <a:pt x="813" y="0"/>
                </a:lnTo>
                <a:lnTo>
                  <a:pt x="813" y="430"/>
                </a:lnTo>
                <a:lnTo>
                  <a:pt x="0" y="4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1447920" cy="762120"/>
          </a:xfrm>
          <a:custGeom>
            <a:avLst/>
            <a:gdLst/>
            <a:ahLst/>
            <a:rect l="l" t="t" r="r" b="b"/>
            <a:pathLst>
              <a:path w="814" h="428">
                <a:moveTo>
                  <a:pt x="0" y="0"/>
                </a:moveTo>
                <a:lnTo>
                  <a:pt x="813" y="0"/>
                </a:lnTo>
                <a:lnTo>
                  <a:pt x="813" y="427"/>
                </a:lnTo>
                <a:lnTo>
                  <a:pt x="0" y="42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952880"/>
            <a:ext cx="1981080" cy="1143000"/>
          </a:xfrm>
          <a:custGeom>
            <a:avLst/>
            <a:gdLst/>
            <a:ahLst/>
            <a:rect l="l" t="t" r="r" b="b"/>
            <a:pathLst>
              <a:path w="1127" h="635">
                <a:moveTo>
                  <a:pt x="0" y="0"/>
                </a:moveTo>
                <a:lnTo>
                  <a:pt x="1126" y="0"/>
                </a:lnTo>
                <a:lnTo>
                  <a:pt x="1126" y="634"/>
                </a:lnTo>
                <a:lnTo>
                  <a:pt x="0" y="63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2a4fe"/>
              </a:gs>
              <a:gs pos="100000">
                <a:srgbClr val="001018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191120"/>
            <a:ext cx="1981080" cy="914400"/>
          </a:xfrm>
          <a:custGeom>
            <a:avLst/>
            <a:gdLst/>
            <a:ahLst/>
            <a:rect l="l" t="t" r="r" b="b"/>
            <a:pathLst>
              <a:path w="1127" h="427">
                <a:moveTo>
                  <a:pt x="0" y="0"/>
                </a:moveTo>
                <a:lnTo>
                  <a:pt x="1126" y="0"/>
                </a:lnTo>
                <a:lnTo>
                  <a:pt x="1126" y="426"/>
                </a:lnTo>
                <a:lnTo>
                  <a:pt x="0" y="42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2a4fe"/>
              </a:gs>
              <a:gs pos="100000">
                <a:srgbClr val="001018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506760"/>
            <a:ext cx="1981080" cy="760320"/>
          </a:xfrm>
          <a:custGeom>
            <a:avLst/>
            <a:gdLst/>
            <a:ahLst/>
            <a:rect l="l" t="t" r="r" b="b"/>
            <a:pathLst>
              <a:path w="1127" h="431">
                <a:moveTo>
                  <a:pt x="0" y="0"/>
                </a:moveTo>
                <a:lnTo>
                  <a:pt x="1126" y="0"/>
                </a:lnTo>
                <a:lnTo>
                  <a:pt x="1126" y="430"/>
                </a:lnTo>
                <a:lnTo>
                  <a:pt x="0" y="43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2a4fe"/>
              </a:gs>
              <a:gs pos="100000">
                <a:srgbClr val="001018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743200"/>
            <a:ext cx="1981080" cy="762120"/>
          </a:xfrm>
          <a:custGeom>
            <a:avLst/>
            <a:gdLst/>
            <a:ahLst/>
            <a:rect l="l" t="t" r="r" b="b"/>
            <a:pathLst>
              <a:path w="1127" h="428">
                <a:moveTo>
                  <a:pt x="0" y="0"/>
                </a:moveTo>
                <a:lnTo>
                  <a:pt x="1126" y="0"/>
                </a:lnTo>
                <a:lnTo>
                  <a:pt x="1126" y="427"/>
                </a:lnTo>
                <a:lnTo>
                  <a:pt x="0" y="42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2a4fe"/>
              </a:gs>
              <a:gs pos="100000">
                <a:srgbClr val="001018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5029200"/>
            <a:ext cx="1828800" cy="1066680"/>
          </a:xfrm>
          <a:custGeom>
            <a:avLst/>
            <a:gdLst/>
            <a:ahLst/>
            <a:rect l="l" t="t" r="r" b="b"/>
            <a:pathLst>
              <a:path w="1129" h="635">
                <a:moveTo>
                  <a:pt x="0" y="0"/>
                </a:moveTo>
                <a:lnTo>
                  <a:pt x="1128" y="0"/>
                </a:lnTo>
                <a:lnTo>
                  <a:pt x="1128" y="634"/>
                </a:lnTo>
                <a:lnTo>
                  <a:pt x="0" y="63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1e1e4b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114800"/>
            <a:ext cx="1828800" cy="990720"/>
          </a:xfrm>
          <a:custGeom>
            <a:avLst/>
            <a:gdLst/>
            <a:ahLst/>
            <a:rect l="l" t="t" r="r" b="b"/>
            <a:pathLst>
              <a:path w="1129" h="427">
                <a:moveTo>
                  <a:pt x="0" y="0"/>
                </a:moveTo>
                <a:lnTo>
                  <a:pt x="1128" y="0"/>
                </a:lnTo>
                <a:lnTo>
                  <a:pt x="1128" y="426"/>
                </a:lnTo>
                <a:lnTo>
                  <a:pt x="0" y="42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1e1e4b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505320"/>
            <a:ext cx="1828800" cy="761760"/>
          </a:xfrm>
          <a:custGeom>
            <a:avLst/>
            <a:gdLst/>
            <a:ahLst/>
            <a:rect l="l" t="t" r="r" b="b"/>
            <a:pathLst>
              <a:path w="1129" h="431">
                <a:moveTo>
                  <a:pt x="0" y="0"/>
                </a:moveTo>
                <a:lnTo>
                  <a:pt x="1128" y="0"/>
                </a:lnTo>
                <a:lnTo>
                  <a:pt x="1128" y="430"/>
                </a:lnTo>
                <a:lnTo>
                  <a:pt x="0" y="43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1e1e4b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743200"/>
            <a:ext cx="1828800" cy="762120"/>
          </a:xfrm>
          <a:custGeom>
            <a:avLst/>
            <a:gdLst/>
            <a:ahLst/>
            <a:rect l="l" t="t" r="r" b="b"/>
            <a:pathLst>
              <a:path w="1129" h="428">
                <a:moveTo>
                  <a:pt x="0" y="0"/>
                </a:moveTo>
                <a:lnTo>
                  <a:pt x="1128" y="0"/>
                </a:lnTo>
                <a:lnTo>
                  <a:pt x="1128" y="427"/>
                </a:lnTo>
                <a:lnTo>
                  <a:pt x="0" y="42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1e1e4b"/>
              </a:gs>
            </a:gsLst>
            <a:lin ang="5400000"/>
          </a:gradFill>
          <a:ln cap="rnd" w="12600">
            <a:solidFill>
              <a:srgbClr val="4aa4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2244600"/>
            <a:ext cx="1828800" cy="498600"/>
          </a:xfrm>
          <a:custGeom>
            <a:avLst/>
            <a:gdLst/>
            <a:ahLst/>
            <a:rect l="l" t="t" r="r" b="b"/>
            <a:pathLst>
              <a:path w="1129" h="245">
                <a:moveTo>
                  <a:pt x="0" y="0"/>
                </a:moveTo>
                <a:lnTo>
                  <a:pt x="1128" y="0"/>
                </a:lnTo>
                <a:lnTo>
                  <a:pt x="1128" y="244"/>
                </a:lnTo>
                <a:lnTo>
                  <a:pt x="0" y="24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5048280"/>
            <a:ext cx="2209680" cy="1047600"/>
          </a:xfrm>
          <a:custGeom>
            <a:avLst/>
            <a:gdLst/>
            <a:ahLst/>
            <a:rect l="l" t="t" r="r" b="b"/>
            <a:pathLst>
              <a:path w="1127" h="635">
                <a:moveTo>
                  <a:pt x="0" y="0"/>
                </a:moveTo>
                <a:lnTo>
                  <a:pt x="1126" y="0"/>
                </a:lnTo>
                <a:lnTo>
                  <a:pt x="1126" y="634"/>
                </a:lnTo>
                <a:lnTo>
                  <a:pt x="0" y="63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45151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191120"/>
            <a:ext cx="2209680" cy="914400"/>
          </a:xfrm>
          <a:custGeom>
            <a:avLst/>
            <a:gdLst/>
            <a:ahLst/>
            <a:rect l="l" t="t" r="r" b="b"/>
            <a:pathLst>
              <a:path w="1127" h="427">
                <a:moveTo>
                  <a:pt x="0" y="0"/>
                </a:moveTo>
                <a:lnTo>
                  <a:pt x="1126" y="0"/>
                </a:lnTo>
                <a:lnTo>
                  <a:pt x="1126" y="426"/>
                </a:lnTo>
                <a:lnTo>
                  <a:pt x="0" y="42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45151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429000"/>
            <a:ext cx="2209680" cy="838080"/>
          </a:xfrm>
          <a:custGeom>
            <a:avLst/>
            <a:gdLst/>
            <a:ahLst/>
            <a:rect l="l" t="t" r="r" b="b"/>
            <a:pathLst>
              <a:path w="1127" h="431">
                <a:moveTo>
                  <a:pt x="0" y="0"/>
                </a:moveTo>
                <a:lnTo>
                  <a:pt x="1126" y="0"/>
                </a:lnTo>
                <a:lnTo>
                  <a:pt x="1126" y="430"/>
                </a:lnTo>
                <a:lnTo>
                  <a:pt x="0" y="43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45151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2743200"/>
            <a:ext cx="2209680" cy="762120"/>
          </a:xfrm>
          <a:custGeom>
            <a:avLst/>
            <a:gdLst/>
            <a:ahLst/>
            <a:rect l="l" t="t" r="r" b="b"/>
            <a:pathLst>
              <a:path w="1127" h="428">
                <a:moveTo>
                  <a:pt x="0" y="0"/>
                </a:moveTo>
                <a:lnTo>
                  <a:pt x="1126" y="0"/>
                </a:lnTo>
                <a:lnTo>
                  <a:pt x="1126" y="427"/>
                </a:lnTo>
                <a:lnTo>
                  <a:pt x="0" y="42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45151"/>
              </a:gs>
            </a:gsLst>
            <a:lin ang="5400000"/>
          </a:gra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244600"/>
            <a:ext cx="2209680" cy="498600"/>
          </a:xfrm>
          <a:custGeom>
            <a:avLst/>
            <a:gdLst/>
            <a:ahLst/>
            <a:rect l="l" t="t" r="r" b="b"/>
            <a:pathLst>
              <a:path w="1127" h="245">
                <a:moveTo>
                  <a:pt x="0" y="0"/>
                </a:moveTo>
                <a:lnTo>
                  <a:pt x="1126" y="0"/>
                </a:lnTo>
                <a:lnTo>
                  <a:pt x="1126" y="244"/>
                </a:lnTo>
                <a:lnTo>
                  <a:pt x="0" y="24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2c9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438280"/>
            <a:ext cx="156528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27480" y="2314440"/>
            <a:ext cx="15638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ctu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416320"/>
            <a:ext cx="1676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V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P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05120"/>
            <a:ext cx="1090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re Per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581280"/>
            <a:ext cx="1090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rate Per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4320" y="4309920"/>
            <a:ext cx="1090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ld Per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334120"/>
            <a:ext cx="12049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mit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743200"/>
            <a:ext cx="1752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mited physical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581280"/>
            <a:ext cx="2133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tacks affect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419720"/>
            <a:ext cx="1904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1 time a week            but &lt; 1 time a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5105520"/>
            <a:ext cx="17528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 1 time a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ymptomatic and normal PEF between at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990880"/>
            <a:ext cx="1292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qu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700440"/>
            <a:ext cx="15382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1 time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4361040"/>
            <a:ext cx="172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2 times a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56200" y="5413320"/>
            <a:ext cx="1711080" cy="51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times a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819520"/>
            <a:ext cx="198144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% predi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riability &gt;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3505320"/>
            <a:ext cx="23623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 - 80% predi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riability  &gt;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4327560"/>
            <a:ext cx="19051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 predi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riability 20 -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3280" y="5332320"/>
            <a:ext cx="199404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 predi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riability &lt; 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6129360"/>
            <a:ext cx="6553080" cy="2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esence of one feature of severity is sufficient to place  patient in that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30492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1981080"/>
            <a:ext cx="5486400" cy="40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and Monitor Sev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Exposure to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Medication Plans for Chronic   Management:  Adults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lans for Managing Exacerb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Regular Follow-up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49520" y="171360"/>
            <a:ext cx="627984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x-Part Asthma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ver" descr=""/>
          <p:cNvPicPr/>
          <p:nvPr/>
        </p:nvPicPr>
        <p:blipFill>
          <a:blip r:embed="rId1"/>
          <a:stretch/>
        </p:blipFill>
        <p:spPr>
          <a:xfrm>
            <a:off x="274680" y="1981080"/>
            <a:ext cx="29257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global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152280"/>
            <a:ext cx="703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als of Long-term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800" y="1676520"/>
            <a:ext cx="804384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 and maintain control of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asthma episodes or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pulmonary function as close to normal level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normal activity levels, including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adverse effects from asthma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development of irreversible airflow l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asthma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06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 Associated with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Compliance in Asthma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dication Us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ies associated with inh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ed reg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s about, or actual sid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1905120"/>
            <a:ext cx="4190760" cy="369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tient/Physic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understanding/lack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estimation of sev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itudes toward il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al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438280"/>
            <a:ext cx="32767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228600"/>
            <a:ext cx="67291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ical Spirometric (FE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 Trac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1849320"/>
            <a:ext cx="2857320" cy="3252960"/>
          </a:xfrm>
          <a:custGeom>
            <a:avLst/>
            <a:gdLst/>
            <a:ahLst/>
            <a:rect l="l" t="t" r="r" b="b"/>
            <a:pathLst>
              <a:path w="2025" h="2049">
                <a:moveTo>
                  <a:pt x="0" y="0"/>
                </a:moveTo>
                <a:lnTo>
                  <a:pt x="0" y="2048"/>
                </a:lnTo>
                <a:lnTo>
                  <a:pt x="2024" y="20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57880" y="3013200"/>
            <a:ext cx="2689200" cy="2060280"/>
          </a:xfrm>
          <a:custGeom>
            <a:avLst/>
            <a:gdLst/>
            <a:ahLst/>
            <a:rect l="l" t="t" r="r" b="b"/>
            <a:pathLst>
              <a:path w="1906" h="1298">
                <a:moveTo>
                  <a:pt x="0" y="1297"/>
                </a:moveTo>
                <a:lnTo>
                  <a:pt x="8" y="1276"/>
                </a:lnTo>
                <a:lnTo>
                  <a:pt x="29" y="1219"/>
                </a:lnTo>
                <a:lnTo>
                  <a:pt x="61" y="1135"/>
                </a:lnTo>
                <a:lnTo>
                  <a:pt x="105" y="1030"/>
                </a:lnTo>
                <a:lnTo>
                  <a:pt x="132" y="972"/>
                </a:lnTo>
                <a:lnTo>
                  <a:pt x="163" y="913"/>
                </a:lnTo>
                <a:lnTo>
                  <a:pt x="194" y="852"/>
                </a:lnTo>
                <a:lnTo>
                  <a:pt x="228" y="792"/>
                </a:lnTo>
                <a:lnTo>
                  <a:pt x="266" y="733"/>
                </a:lnTo>
                <a:lnTo>
                  <a:pt x="305" y="676"/>
                </a:lnTo>
                <a:lnTo>
                  <a:pt x="326" y="649"/>
                </a:lnTo>
                <a:lnTo>
                  <a:pt x="347" y="622"/>
                </a:lnTo>
                <a:lnTo>
                  <a:pt x="368" y="597"/>
                </a:lnTo>
                <a:lnTo>
                  <a:pt x="389" y="574"/>
                </a:lnTo>
                <a:lnTo>
                  <a:pt x="437" y="526"/>
                </a:lnTo>
                <a:lnTo>
                  <a:pt x="488" y="477"/>
                </a:lnTo>
                <a:lnTo>
                  <a:pt x="548" y="427"/>
                </a:lnTo>
                <a:lnTo>
                  <a:pt x="611" y="375"/>
                </a:lnTo>
                <a:lnTo>
                  <a:pt x="645" y="350"/>
                </a:lnTo>
                <a:lnTo>
                  <a:pt x="682" y="326"/>
                </a:lnTo>
                <a:lnTo>
                  <a:pt x="718" y="301"/>
                </a:lnTo>
                <a:lnTo>
                  <a:pt x="756" y="278"/>
                </a:lnTo>
                <a:lnTo>
                  <a:pt x="798" y="253"/>
                </a:lnTo>
                <a:lnTo>
                  <a:pt x="840" y="230"/>
                </a:lnTo>
                <a:lnTo>
                  <a:pt x="883" y="207"/>
                </a:lnTo>
                <a:lnTo>
                  <a:pt x="928" y="186"/>
                </a:lnTo>
                <a:lnTo>
                  <a:pt x="976" y="165"/>
                </a:lnTo>
                <a:lnTo>
                  <a:pt x="1024" y="144"/>
                </a:lnTo>
                <a:lnTo>
                  <a:pt x="1076" y="125"/>
                </a:lnTo>
                <a:lnTo>
                  <a:pt x="1127" y="108"/>
                </a:lnTo>
                <a:lnTo>
                  <a:pt x="1181" y="90"/>
                </a:lnTo>
                <a:lnTo>
                  <a:pt x="1238" y="75"/>
                </a:lnTo>
                <a:lnTo>
                  <a:pt x="1296" y="60"/>
                </a:lnTo>
                <a:lnTo>
                  <a:pt x="1355" y="46"/>
                </a:lnTo>
                <a:lnTo>
                  <a:pt x="1416" y="35"/>
                </a:lnTo>
                <a:lnTo>
                  <a:pt x="1480" y="25"/>
                </a:lnTo>
                <a:lnTo>
                  <a:pt x="1547" y="16"/>
                </a:lnTo>
                <a:lnTo>
                  <a:pt x="1614" y="10"/>
                </a:lnTo>
                <a:lnTo>
                  <a:pt x="1683" y="4"/>
                </a:lnTo>
                <a:lnTo>
                  <a:pt x="1755" y="0"/>
                </a:lnTo>
                <a:lnTo>
                  <a:pt x="1828" y="0"/>
                </a:lnTo>
                <a:lnTo>
                  <a:pt x="1905" y="0"/>
                </a:lnTo>
              </a:path>
            </a:pathLst>
          </a:custGeom>
          <a:noFill/>
          <a:ln cap="rnd" w="50760">
            <a:solidFill>
              <a:srgbClr val="dd0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57880" y="2101680"/>
            <a:ext cx="2689200" cy="2971800"/>
          </a:xfrm>
          <a:custGeom>
            <a:avLst/>
            <a:gdLst/>
            <a:ahLst/>
            <a:rect l="l" t="t" r="r" b="b"/>
            <a:pathLst>
              <a:path w="1906" h="1872">
                <a:moveTo>
                  <a:pt x="1905" y="10"/>
                </a:moveTo>
                <a:lnTo>
                  <a:pt x="1853" y="6"/>
                </a:lnTo>
                <a:lnTo>
                  <a:pt x="1801" y="2"/>
                </a:lnTo>
                <a:lnTo>
                  <a:pt x="1749" y="0"/>
                </a:lnTo>
                <a:lnTo>
                  <a:pt x="1698" y="0"/>
                </a:lnTo>
                <a:lnTo>
                  <a:pt x="1646" y="2"/>
                </a:lnTo>
                <a:lnTo>
                  <a:pt x="1594" y="4"/>
                </a:lnTo>
                <a:lnTo>
                  <a:pt x="1543" y="6"/>
                </a:lnTo>
                <a:lnTo>
                  <a:pt x="1491" y="12"/>
                </a:lnTo>
                <a:lnTo>
                  <a:pt x="1439" y="18"/>
                </a:lnTo>
                <a:lnTo>
                  <a:pt x="1390" y="25"/>
                </a:lnTo>
                <a:lnTo>
                  <a:pt x="1338" y="35"/>
                </a:lnTo>
                <a:lnTo>
                  <a:pt x="1288" y="46"/>
                </a:lnTo>
                <a:lnTo>
                  <a:pt x="1237" y="58"/>
                </a:lnTo>
                <a:lnTo>
                  <a:pt x="1187" y="71"/>
                </a:lnTo>
                <a:lnTo>
                  <a:pt x="1139" y="88"/>
                </a:lnTo>
                <a:lnTo>
                  <a:pt x="1089" y="106"/>
                </a:lnTo>
                <a:lnTo>
                  <a:pt x="1041" y="125"/>
                </a:lnTo>
                <a:lnTo>
                  <a:pt x="994" y="146"/>
                </a:lnTo>
                <a:lnTo>
                  <a:pt x="946" y="167"/>
                </a:lnTo>
                <a:lnTo>
                  <a:pt x="898" y="192"/>
                </a:lnTo>
                <a:lnTo>
                  <a:pt x="852" y="219"/>
                </a:lnTo>
                <a:lnTo>
                  <a:pt x="808" y="247"/>
                </a:lnTo>
                <a:lnTo>
                  <a:pt x="762" y="278"/>
                </a:lnTo>
                <a:lnTo>
                  <a:pt x="718" y="310"/>
                </a:lnTo>
                <a:lnTo>
                  <a:pt x="676" y="345"/>
                </a:lnTo>
                <a:lnTo>
                  <a:pt x="632" y="381"/>
                </a:lnTo>
                <a:lnTo>
                  <a:pt x="592" y="419"/>
                </a:lnTo>
                <a:lnTo>
                  <a:pt x="550" y="462"/>
                </a:lnTo>
                <a:lnTo>
                  <a:pt x="511" y="506"/>
                </a:lnTo>
                <a:lnTo>
                  <a:pt x="471" y="550"/>
                </a:lnTo>
                <a:lnTo>
                  <a:pt x="435" y="597"/>
                </a:lnTo>
                <a:lnTo>
                  <a:pt x="398" y="649"/>
                </a:lnTo>
                <a:lnTo>
                  <a:pt x="362" y="701"/>
                </a:lnTo>
                <a:lnTo>
                  <a:pt x="329" y="752"/>
                </a:lnTo>
                <a:lnTo>
                  <a:pt x="299" y="806"/>
                </a:lnTo>
                <a:lnTo>
                  <a:pt x="270" y="858"/>
                </a:lnTo>
                <a:lnTo>
                  <a:pt x="243" y="911"/>
                </a:lnTo>
                <a:lnTo>
                  <a:pt x="218" y="965"/>
                </a:lnTo>
                <a:lnTo>
                  <a:pt x="195" y="1018"/>
                </a:lnTo>
                <a:lnTo>
                  <a:pt x="172" y="1072"/>
                </a:lnTo>
                <a:lnTo>
                  <a:pt x="153" y="1123"/>
                </a:lnTo>
                <a:lnTo>
                  <a:pt x="134" y="1175"/>
                </a:lnTo>
                <a:lnTo>
                  <a:pt x="119" y="1227"/>
                </a:lnTo>
                <a:lnTo>
                  <a:pt x="104" y="1276"/>
                </a:lnTo>
                <a:lnTo>
                  <a:pt x="77" y="1374"/>
                </a:lnTo>
                <a:lnTo>
                  <a:pt x="56" y="1466"/>
                </a:lnTo>
                <a:lnTo>
                  <a:pt x="39" y="1552"/>
                </a:lnTo>
                <a:lnTo>
                  <a:pt x="25" y="1628"/>
                </a:lnTo>
                <a:lnTo>
                  <a:pt x="16" y="1699"/>
                </a:lnTo>
                <a:lnTo>
                  <a:pt x="8" y="1759"/>
                </a:lnTo>
                <a:lnTo>
                  <a:pt x="2" y="1843"/>
                </a:lnTo>
                <a:lnTo>
                  <a:pt x="0" y="1871"/>
                </a:lnTo>
              </a:path>
            </a:pathLst>
          </a:custGeom>
          <a:noFill/>
          <a:ln cap="rnd" w="50760">
            <a:solidFill>
              <a:srgbClr val="4e6b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1920" y="3760920"/>
            <a:ext cx="2691000" cy="1312560"/>
          </a:xfrm>
          <a:custGeom>
            <a:avLst/>
            <a:gdLst/>
            <a:ahLst/>
            <a:rect l="l" t="t" r="r" b="b"/>
            <a:pathLst>
              <a:path w="1907" h="827">
                <a:moveTo>
                  <a:pt x="0" y="826"/>
                </a:moveTo>
                <a:lnTo>
                  <a:pt x="4" y="815"/>
                </a:lnTo>
                <a:lnTo>
                  <a:pt x="19" y="784"/>
                </a:lnTo>
                <a:lnTo>
                  <a:pt x="44" y="737"/>
                </a:lnTo>
                <a:lnTo>
                  <a:pt x="84" y="675"/>
                </a:lnTo>
                <a:lnTo>
                  <a:pt x="109" y="641"/>
                </a:lnTo>
                <a:lnTo>
                  <a:pt x="138" y="605"/>
                </a:lnTo>
                <a:lnTo>
                  <a:pt x="170" y="568"/>
                </a:lnTo>
                <a:lnTo>
                  <a:pt x="206" y="528"/>
                </a:lnTo>
                <a:lnTo>
                  <a:pt x="247" y="488"/>
                </a:lnTo>
                <a:lnTo>
                  <a:pt x="293" y="448"/>
                </a:lnTo>
                <a:lnTo>
                  <a:pt x="342" y="407"/>
                </a:lnTo>
                <a:lnTo>
                  <a:pt x="396" y="369"/>
                </a:lnTo>
                <a:lnTo>
                  <a:pt x="453" y="331"/>
                </a:lnTo>
                <a:lnTo>
                  <a:pt x="513" y="293"/>
                </a:lnTo>
                <a:lnTo>
                  <a:pt x="576" y="256"/>
                </a:lnTo>
                <a:lnTo>
                  <a:pt x="643" y="222"/>
                </a:lnTo>
                <a:lnTo>
                  <a:pt x="712" y="189"/>
                </a:lnTo>
                <a:lnTo>
                  <a:pt x="786" y="159"/>
                </a:lnTo>
                <a:lnTo>
                  <a:pt x="867" y="130"/>
                </a:lnTo>
                <a:lnTo>
                  <a:pt x="951" y="105"/>
                </a:lnTo>
                <a:lnTo>
                  <a:pt x="1043" y="80"/>
                </a:lnTo>
                <a:lnTo>
                  <a:pt x="1140" y="59"/>
                </a:lnTo>
                <a:lnTo>
                  <a:pt x="1192" y="50"/>
                </a:lnTo>
                <a:lnTo>
                  <a:pt x="1248" y="42"/>
                </a:lnTo>
                <a:lnTo>
                  <a:pt x="1303" y="34"/>
                </a:lnTo>
                <a:lnTo>
                  <a:pt x="1361" y="27"/>
                </a:lnTo>
                <a:lnTo>
                  <a:pt x="1420" y="21"/>
                </a:lnTo>
                <a:lnTo>
                  <a:pt x="1483" y="15"/>
                </a:lnTo>
                <a:lnTo>
                  <a:pt x="1546" y="10"/>
                </a:lnTo>
                <a:lnTo>
                  <a:pt x="1613" y="6"/>
                </a:lnTo>
                <a:lnTo>
                  <a:pt x="1684" y="4"/>
                </a:lnTo>
                <a:lnTo>
                  <a:pt x="1755" y="2"/>
                </a:lnTo>
                <a:lnTo>
                  <a:pt x="1829" y="0"/>
                </a:lnTo>
                <a:lnTo>
                  <a:pt x="1906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30640" y="508968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0880" y="5089680"/>
            <a:ext cx="1440" cy="14256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89"/>
                </a:moveTo>
                <a:lnTo>
                  <a:pt x="0" y="80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0760" y="5089680"/>
            <a:ext cx="1440" cy="14256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89"/>
                </a:moveTo>
                <a:lnTo>
                  <a:pt x="0" y="80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40640" y="5089680"/>
            <a:ext cx="1440" cy="14256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89"/>
                </a:moveTo>
                <a:lnTo>
                  <a:pt x="0" y="80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294680" y="508968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3680" y="52084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11960" y="5460840"/>
            <a:ext cx="131076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(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46800" y="52084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1280" y="52084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4200" y="52084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50320" y="52084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9800" y="2382840"/>
            <a:ext cx="699480" cy="40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V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96960" y="1812960"/>
            <a:ext cx="100728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59040" y="2960640"/>
            <a:ext cx="174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6120" y="3749760"/>
            <a:ext cx="341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tic (After Bronchodi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6840" y="4157640"/>
            <a:ext cx="360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tic (Before Bronchodi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48160" y="3132000"/>
            <a:ext cx="577800" cy="1930680"/>
          </a:xfrm>
          <a:custGeom>
            <a:avLst/>
            <a:gdLst/>
            <a:ahLst/>
            <a:rect l="l" t="t" r="r" b="b"/>
            <a:pathLst>
              <a:path w="410" h="1216">
                <a:moveTo>
                  <a:pt x="0" y="0"/>
                </a:moveTo>
                <a:lnTo>
                  <a:pt x="409" y="0"/>
                </a:lnTo>
                <a:lnTo>
                  <a:pt x="409" y="121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0480" y="3930480"/>
            <a:ext cx="542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70480" y="4346640"/>
            <a:ext cx="542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9840" y="6016680"/>
            <a:ext cx="6320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Each FE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urve represents the highest of three repeat measu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 4: Establish Medication Plans for Long-Term Asthma Management in Infants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3434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resent, inhaled glucocorticosteroids are the most effective controller medications and are recommended for persistent asthma at any step of sev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 treatment with inhaled glucocorticosteroids markedly reduces the frequency and severity of exacerb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3880" y="152280"/>
            <a:ext cx="730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4:  Long-term Asthm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wise Approach to Asthma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00200"/>
            <a:ext cx="80899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hoice of treatment should be guided b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the patient’s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’s current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macological properties and availability of the various forms of asthma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ltural preferences and differing health c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s need to be considered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3880" y="228600"/>
            <a:ext cx="7239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4:  Long-term Asthm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ologic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960" y="1797120"/>
            <a:ext cx="7842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roller Med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led glucocortico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glucocortico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m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xant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acting inhal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acting o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ukotriene mod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4600" y="151920"/>
            <a:ext cx="682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NA Workshop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360" y="1828440"/>
            <a:ext cx="8324640" cy="396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vidence Category   Sources of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AU" sz="2600" spc="-1" strike="noStrike">
                <a:solidFill>
                  <a:srgbClr val="a5ff4b"/>
                </a:solidFill>
                <a:latin typeface="Arial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andomized clinical t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ich body of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1" lang="en-AU" sz="2600" spc="-1" strike="noStrike">
                <a:solidFill>
                  <a:srgbClr val="a5ff4b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a5ff4b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a5ff4b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andomized clinical t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mited body of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lang="en-AU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on-randomized t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bservational stu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</a:t>
            </a:r>
            <a:r>
              <a:rPr b="1" lang="en-AU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anel judgment consens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880" y="228600"/>
            <a:ext cx="6729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4:  Long-term Asthma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ologic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752480"/>
            <a:ext cx="7086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1440" indent="-27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liever Med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-acting inhal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glucocortico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inerg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xant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-acting o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95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3880" y="228600"/>
            <a:ext cx="7620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4:  Long-term Asthm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-specific Immunotherapy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1120" indent="-295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905120"/>
            <a:ext cx="8077320" cy="395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benefit of specific immunotherapy using allergen extracts has been obtained in the treatment of allergic rhin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mber of questions must be addressed regarding the role of specific immunotherapy in asthma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immunotherapy should be considered only after strict environmental avoidance and pharmacologic intervention, including inhaled glucocorticosteroids, have failed to control asth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only by trained phys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 4: Establish Medication Plans for Long-Term Asthma Management in Infants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 treatment with inhaled glucocorticosteroids has not been shown to be associated with any increase in osteoporosis or bone fra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cluding a total of over 3,500 children treated for periods of 1 – 13 years have found no sustained adverse effect of inhaled glucocorticosteroids on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9810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2392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 4: Establish Medication Plans for Long-Term Asthma Management in Infants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-acting inhal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gonists are the most effective reliever therapy for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are the most effective bronchodilators available and are the treatment of choice for acute asthma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810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ommended Asthma Medications Step 1: 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246400"/>
          <a:ext cx="8076960" cy="2325600"/>
        </p:xfrm>
        <a:graphic>
          <a:graphicData uri="http://schemas.openxmlformats.org/drawingml/2006/table">
            <a:tbl>
              <a:tblPr/>
              <a:tblGrid>
                <a:gridCol w="1828440"/>
                <a:gridCol w="2806920"/>
                <a:gridCol w="34416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 Options 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tten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80880" y="502920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iever Medication:  Rapid-acting inhal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gonist prn, not more than 3-4 times a day.  Once control is achieved and maintained for at least 3 months, gradual reduction of therapy should be tr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ommended Asthma Medications Step 2: 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905120"/>
          <a:ext cx="8076960" cy="3292200"/>
        </p:xfrm>
        <a:graphic>
          <a:graphicData uri="http://schemas.openxmlformats.org/drawingml/2006/table">
            <a:tbl>
              <a:tblPr/>
              <a:tblGrid>
                <a:gridCol w="1828800"/>
                <a:gridCol w="2806560"/>
                <a:gridCol w="3441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 Options 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d Persist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0 – 400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ined-release theophylline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mone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ukotriene modif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457200" y="539424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iever Medication:  Rapid-acting inhal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gonist prn, not more than 3-4 times a day.  Once control is achieved and maintained for at least 3 months, gradual reduction of therapy should be tr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ommended Asthma Medications Step 3: 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600200"/>
          <a:ext cx="8458200" cy="4010040"/>
        </p:xfrm>
        <a:graphic>
          <a:graphicData uri="http://schemas.openxmlformats.org/drawingml/2006/table">
            <a:tbl>
              <a:tblPr/>
              <a:tblGrid>
                <a:gridCol w="1218960"/>
                <a:gridCol w="3048120"/>
                <a:gridCol w="4191120"/>
              </a:tblGrid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ve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 Controller Me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 Options (in order of c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  <a:tr h="35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3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 persis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400 – 800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 (&lt; 800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stained-release 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ophylline,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 (&lt; 800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-acting inhaled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gonist,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 at higher doses (&gt; 800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,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 (&lt; 800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ukotriene mod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80880" y="569916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iever Medication:  Rapid-acting inhal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gonist prn, not more than 3-4 times a day.  Once control is achieved and maintained for at least 3 months, gradual reduction of therapy should be tr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ommended Asthma Medications Step 4: 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676520"/>
          <a:ext cx="8076960" cy="3959280"/>
        </p:xfrm>
        <a:graphic>
          <a:graphicData uri="http://schemas.openxmlformats.org/drawingml/2006/table">
            <a:tbl>
              <a:tblPr/>
              <a:tblGrid>
                <a:gridCol w="1828800"/>
                <a:gridCol w="411480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ve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 Controller Med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 O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  <a:tr h="36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vere persis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ed glucocorticostero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&gt; 80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g budesonide or equivalen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e or more of the following, if need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ustained-release theophyl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Leukotriene 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Long-acting inhaled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gon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Oral glucocorticoster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380880" y="562284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iever Medication:  Rapid-acting inhal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gonist prn, not more than 3-4 times a day.  Once control is achieved and maintained for at least 3 months, gradual reduction of therapy should be tr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part Asthma Management Program</a:t>
            </a: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 5: Managing Severe Asthma Exacerb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exacerbations are life-threatening medical emergen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must be expeditious and treatment is often most safely undertaken in a hospital or hospital-based emergency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-part Asthma Management Progra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Clr>
                <a:srgbClr val="ffff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 can be effectively controlled, although it cannot be c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sthma management programs include education, objective measures of lung function, environmental control, and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epwise approach to pharmacologic therapy is recommended.  The aim is to accomplish the goals of therapy with the least possible me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finition of Asth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ronic inflammatory disorder of the ai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ells and cellular elements play a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inflammation leads to an increase in airway hyperresponsiveness with recurrent episodes of wheezing, coughing, and shortness of b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spread, variable, and often reversible airflow l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finition of Asth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is a chronic inflammatory disorder of the airways in which many cells and cellular elements play a r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inflammation causes an associated increase in airway hyperresponsiveness that leads to recurrent episodes of wheezing, breathlessness, chest tightness, and coughing, particularly at night or in the early morn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pisodes are usually associated with widespread but variable airflow obstruction that is often reversible either spontaneously or with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Mechanisms Underlying the Definition of Asth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for development of asthm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3720" y="2743200"/>
            <a:ext cx="5295960" cy="1485720"/>
            <a:chOff x="2133720" y="2743200"/>
            <a:chExt cx="5295960" cy="14857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133720" y="2743200"/>
              <a:ext cx="52959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561120" y="3081240"/>
              <a:ext cx="2592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17520" y="3124080"/>
            <a:ext cx="3289680" cy="550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 Black"/>
              </a:rPr>
              <a:t>INFLAM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038480"/>
            <a:ext cx="3200400" cy="8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respons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440" y="4419720"/>
            <a:ext cx="2526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flow Obstr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562720"/>
            <a:ext cx="2971800" cy="69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for exacerb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240" y="5410080"/>
            <a:ext cx="1873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362320"/>
            <a:ext cx="690480" cy="392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781680" y="2362320"/>
            <a:ext cx="633600" cy="433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648320"/>
            <a:ext cx="22273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52480" y="3886200"/>
            <a:ext cx="1013040" cy="34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962520"/>
            <a:ext cx="700200" cy="43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657600"/>
            <a:ext cx="1301760" cy="1973160"/>
          </a:xfrm>
          <a:custGeom>
            <a:avLst/>
            <a:gdLst/>
            <a:ahLst/>
            <a:rect l="l" t="t" r="r" b="b"/>
            <a:pathLst>
              <a:path w="820" h="1243">
                <a:moveTo>
                  <a:pt x="209" y="1242"/>
                </a:moveTo>
                <a:lnTo>
                  <a:pt x="819" y="1242"/>
                </a:lnTo>
                <a:lnTo>
                  <a:pt x="819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19720" y="4724280"/>
            <a:ext cx="0" cy="70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4800600"/>
            <a:ext cx="0" cy="42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global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urden of Asth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hma is one of the most common chronic diseases worldw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lence increasing in many countries, especially in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jor cause of school/work ab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all increase in severity of asthma increases the pool of patients at risk for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rden of Asth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expenditures very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economies might expect to spend 1-2 percent of total health care expenditures on asthma.  Developing economies likely to face increased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controlled asthma is expensive; investment in prevention medication likely to yield cost savings in emergency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52388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 it Asth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rent episodes of wh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some cough at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 or wheeze after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, wheeze or chest tightness after exposure to airborne allergens or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s “go to the chest” or take more than 10 days to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sthma Diagn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and patterns of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of lung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of allergic status to identify risk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global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8:37:55Z</dcterms:created>
  <dc:creator>Suzanne S. Hurd</dc:creator>
  <dc:description/>
  <dc:language>en-US</dc:language>
  <cp:lastModifiedBy>luca</cp:lastModifiedBy>
  <dcterms:modified xsi:type="dcterms:W3CDTF">2004-03-08T23:04:48Z</dcterms:modified>
  <cp:revision>71</cp:revision>
  <dc:subject/>
  <dc:title>PowerPoint Presentation</dc:title>
</cp:coreProperties>
</file>